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744E-9DC0-4BAC-A589-E3BE8BF4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959F-71CC-4902-AB34-666C792B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581AF-AE87-461C-9441-B347BE66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15C9-7D0B-4A84-9061-FC2E3E23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8613-FD3F-4885-BBA0-2C38B4E5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2698-83A0-413E-B5E7-12131A4A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4F4-AE89-40F1-A1C0-3684E93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DAC1-0932-4A83-AB1C-F268999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99F-5744-4CF5-84AB-2643DA47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5B3F-F18C-4BDF-A8D4-768B908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FF8-A65D-40CE-B70D-E084F00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FEAF-7332-4267-AF43-13726F8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84F3-7C57-45DC-A0C9-18651B6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19B6-E110-4982-BBCB-906CAC6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E1AA-278F-4687-82E5-C2D23CAB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FED4-0BD2-4EF7-9F0A-744924F8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0308-9FF0-4F7B-88F5-70923D3B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FBE2A-4B36-4621-876F-7A2DF987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6719-F4FC-4798-9242-A676923A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FD0F-4ED7-4C51-89A1-C522C0FA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B4DC-FF1B-45F9-BAA0-210B95DC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DE41-167D-45F0-B868-A1263AB9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D012-B32C-4844-8EF5-BFBA197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B623-C8C7-4E0D-B361-8B504E2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A60-973A-413B-A0BF-A183B5120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FDE-99AE-4139-8BA2-6FFB6B7DD5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05080" y="4076640"/>
            <a:ext cx="63338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АИСИЙ ХИЛЕНДАРС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365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2027160" cy="28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1873440" cy="2592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95640" y="3500280"/>
            <a:ext cx="1800360" cy="2543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68360" y="4221000"/>
            <a:ext cx="289548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032360" cy="2737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9640" y="227664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3548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99640" y="306864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родно място повечето от неговите биографи сочат Банс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ското му име вероятно е Пенко или Петъ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ден е в семейството на търговеца Михаил Хадживълч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 посочва, че няма системно образов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 1745 г. св. Паисий заминал за Света гора (Атон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е установил при своя брат Лаврентий в Хилендарския манасти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ук приел монашество и като таксиди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монах, който пътува с поръката да събира помощи за манасти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да кани поклонниц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икалял села и градове, за да събира помощи за манаст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508640"/>
            <a:ext cx="787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кар и да нямал високо образова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й отрано проявявал интерес към миналото на своя на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това го подтикнало към написването на исто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а съществена причина, за да се залови за тази своя иде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ило и крайно тежкото положение на поробеното българско насе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2879640" cy="2808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00360" y="4005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лията в Хилендарския манаст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194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816360" cy="354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08200" y="582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1916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ец Паисий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ългарски народен будител и духовни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 на “История славянобългарска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триотизмът и тревогата му за съдбата на българският род и език са изразени в “книжчица” , която възкресява славното минало на българите и внушава ,че имаме основание за високо самочувствие и горд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449440" cy="3672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390920" cy="324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573408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фроний Врачан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5440" y="1700280"/>
            <a:ext cx="44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раници от първия препис-котленс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ъхранява се в Народната библиот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.Св. Кирил и Метод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66544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11680" y="1773360"/>
            <a:ext cx="639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родължение на две години той упори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дирвал сведения из атонските манасти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из различни краища на българските зе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време на своите обикол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 завръщането си в Света гора Паис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 преместил в Зографския манаст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макар да бил с разклатено здрав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пял да завърши своя тру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История славяноболгарска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 народа и за българските ца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светци и за всички деяния и минало български" (1762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3024000" cy="256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80000" y="549360"/>
            <a:ext cx="1742760" cy="262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724360" y="2637000"/>
            <a:ext cx="2506680" cy="353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72000" y="6165720"/>
            <a:ext cx="59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етникът на отец Паисий в родния му град  Банс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9280" y="1628640"/>
            <a:ext cx="506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дигна тез листи , и викна висок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 днеска нататък българският 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тория има и става народ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ка той познае от моето пис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 голям е той бил и пак ще ст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 и ний сме дали нещо на с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на вси славяни книга да чета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кога му викнат:”Българину!” бес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й да се гордее с това име чест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 “Паисий” от Иван Ваз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3624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095640" cy="273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043080" cy="2663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5480" y="1844640"/>
            <a:ext cx="530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овдивски университет “Паисий Хилендарски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7:21:29Z</dcterms:created>
  <dc:creator>Home</dc:creator>
  <dc:description/>
  <dc:language>en-US</dc:language>
  <cp:lastModifiedBy>Home</cp:lastModifiedBy>
  <dcterms:modified xsi:type="dcterms:W3CDTF">2013-02-25T18:36:06Z</dcterms:modified>
  <cp:revision>2</cp:revision>
  <dc:subject/>
  <dc:title>Слайд 1</dc:title>
</cp:coreProperties>
</file>